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E5C7-0F78-4AAE-A569-C0D953FF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3CF0-6F14-48B5-A3C7-149472C1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7CB5-777A-4A7F-B2D0-C3725304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7C9D-233B-4F4F-82BF-44D6595B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EE80-A193-453C-9D0B-01333B92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4C59-5CF5-45E7-9F24-93629265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297A-2327-4C77-89DE-3161E8CF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09FC-3B30-460E-BFA1-4C53172E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5636-B29B-4169-98AC-51747AFA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068A-7184-48BE-A0FE-CECF5B4D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0B9F-A62A-467E-B541-B99B5BCF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E425-B6CA-426A-8162-16756F48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003c"/>
            </a:gs>
            <a:gs pos="100000">
              <a:srgbClr val="5a001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B878-2EEC-46D4-B3BE-E785564DF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003c"/>
            </a:gs>
            <a:gs pos="100000">
              <a:srgbClr val="5a001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Love the Lo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99920" y="434340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 and Music by Lincoln Brew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Copyright 2005 Integrity’s Praise! Music (BMI) (c/o Integrity Media, Inc., 1000 Cody road, Mobile, AL 3660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rights reserved. Used by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CLI # 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48720" y="603396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56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003c"/>
            </a:gs>
            <a:gs pos="100000">
              <a:srgbClr val="5a001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all my hear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all my soul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all my min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all my strength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repea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003c"/>
            </a:gs>
            <a:gs pos="100000">
              <a:srgbClr val="5a001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will serve You, Lor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th all my heart, with all my sou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th all my min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with all my strength</a:t>
            </a:r>
            <a:br>
              <a:rPr sz="44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ing 3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003c"/>
            </a:gs>
            <a:gs pos="100000">
              <a:srgbClr val="5a001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ve the Lord, Your God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ith all your heart, with all your soul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ith all your mind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nd with all your streng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4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repea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003c"/>
            </a:gs>
            <a:gs pos="100000">
              <a:srgbClr val="5a001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all your hear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all your soul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all your min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all your streng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003c"/>
            </a:gs>
            <a:gs pos="100000">
              <a:srgbClr val="5a001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ve the Lord, your God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ith all your heart, with all your soul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ith all your mind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nd with all your strengt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003c"/>
            </a:gs>
            <a:gs pos="100000">
              <a:srgbClr val="5a001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I will serve the Lord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with all my heart, with all my soul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with all my mind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nd with all my strength</a:t>
            </a:r>
            <a:br>
              <a:rPr sz="46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repea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003c"/>
            </a:gs>
            <a:gs pos="100000">
              <a:srgbClr val="5a001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all my hear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all my soul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all my min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all my streng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003c"/>
            </a:gs>
            <a:gs pos="100000">
              <a:srgbClr val="5a001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I will serve the Lord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with all my heart, with all my soul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with all my mind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nd with all my strength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003c"/>
            </a:gs>
            <a:gs pos="100000">
              <a:srgbClr val="5a001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 will love You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I will love You)</a:t>
            </a:r>
            <a:br>
              <a:rPr sz="40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 will praise You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I will praise You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003c"/>
            </a:gs>
            <a:gs pos="100000">
              <a:srgbClr val="5a001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 will serve You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I will serve You)</a:t>
            </a:r>
            <a:br>
              <a:rPr sz="40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 will trust You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I will trust You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TERRY</cp:lastModifiedBy>
  <dcterms:modified xsi:type="dcterms:W3CDTF">2008-07-04T16:53:28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